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877-89E0-4F79-9E2E-9F316A36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2E8-E2C3-49D1-B5F7-99321C43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4E2-8CEE-4D06-95E8-368DD50E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6B9-834D-4F58-ACC4-617CB673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3F2-6B18-4330-9197-C5CC328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1F0-EAEB-4D72-8A81-C0611BB1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E5A-3F79-4C9E-A1B3-C1F8336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078-60CD-4FBE-95DC-F85FCBE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FF9-955B-4680-A589-4FF5651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9AB-6BFF-4BA3-B7E6-6EE9F2C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2C4-9119-41F7-9A68-32FD335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CE8-19FE-4C2F-B776-AD5141E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280" y="6244920"/>
            <a:ext cx="251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한국방위산업학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6796080" cy="336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rcRect l="0" t="0" r="0" b="42823"/>
          <a:stretch/>
        </p:blipFill>
        <p:spPr>
          <a:xfrm>
            <a:off x="1547640" y="1268280"/>
            <a:ext cx="330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13897"/>
          <a:stretch/>
        </p:blipFill>
        <p:spPr>
          <a:xfrm>
            <a:off x="324000" y="3068640"/>
            <a:ext cx="6796080" cy="289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0" t="0" r="0" b="42823"/>
          <a:stretch/>
        </p:blipFill>
        <p:spPr>
          <a:xfrm>
            <a:off x="1547640" y="1268280"/>
            <a:ext cx="330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3:09:33Z</dcterms:created>
  <dc:creator>방산학회</dc:creator>
  <dc:description/>
  <dc:language>en-US</dc:language>
  <cp:lastModifiedBy>Julia</cp:lastModifiedBy>
  <dcterms:modified xsi:type="dcterms:W3CDTF">2011-05-02T09:38:43Z</dcterms:modified>
  <cp:revision>10</cp:revision>
  <dc:subject/>
  <dc:title>슬라이드 1</dc:title>
</cp:coreProperties>
</file>