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BCD-0073-4F6E-B508-1A6202FA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D38-B295-4068-8187-E04AB65F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F84-EB6A-425B-8128-8DE342F9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6F5-1BC9-47EA-84EE-D737005C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4B2-A94D-4C0B-BB54-EF671772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714-413D-4232-80C6-85F32388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40F-50F3-447F-AB12-B5B319C4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8F3-4B62-4DEA-A9BE-9F083044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547-C447-43C3-B4D9-9D8AE13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DE4-45C9-416B-8200-0C34C4CF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604-5EC4-44EF-9E58-21146652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448-54EE-46A6-8868-21007597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7280" y="6244920"/>
            <a:ext cx="251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한국방위산업학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_x98309808" descr="EMB0000104466af"/>
          <p:cNvPicPr/>
          <p:nvPr/>
        </p:nvPicPr>
        <p:blipFill>
          <a:blip r:embed="rId1"/>
          <a:srcRect l="0" t="0" r="0" b="42628"/>
          <a:stretch/>
        </p:blipFill>
        <p:spPr>
          <a:xfrm>
            <a:off x="611280" y="1052640"/>
            <a:ext cx="4176720" cy="1166760"/>
          </a:xfrm>
          <a:prstGeom prst="rect">
            <a:avLst/>
          </a:prstGeom>
          <a:ln w="0">
            <a:noFill/>
          </a:ln>
        </p:spPr>
      </p:pic>
      <p:pic>
        <p:nvPicPr>
          <p:cNvPr id="42" name="_x98309328" descr="EMB0000104466af"/>
          <p:cNvPicPr/>
          <p:nvPr/>
        </p:nvPicPr>
        <p:blipFill>
          <a:blip r:embed="rId2"/>
          <a:stretch/>
        </p:blipFill>
        <p:spPr>
          <a:xfrm>
            <a:off x="395280" y="2852640"/>
            <a:ext cx="6218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6796080" cy="336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0" t="0" r="0" b="42802"/>
          <a:stretch/>
        </p:blipFill>
        <p:spPr>
          <a:xfrm>
            <a:off x="1547640" y="1268280"/>
            <a:ext cx="33055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ogo2"/>
          <p:cNvPicPr/>
          <p:nvPr/>
        </p:nvPicPr>
        <p:blipFill>
          <a:blip r:embed="rId1"/>
          <a:stretch/>
        </p:blipFill>
        <p:spPr>
          <a:xfrm>
            <a:off x="1763640" y="1844640"/>
            <a:ext cx="5904000" cy="39830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42920" y="115920"/>
            <a:ext cx="1908000" cy="360360"/>
          </a:xfrm>
          <a:prstGeom prst="flowChartAlternateProcess">
            <a:avLst/>
          </a:prstGeom>
          <a:solidFill>
            <a:srgbClr val="c0c0c0"/>
          </a:solidFill>
          <a:ln cap="rnd" w="93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학회 로고 디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03:09:33Z</dcterms:created>
  <dc:creator>방산학회</dc:creator>
  <dc:description/>
  <dc:language>en-US</dc:language>
  <cp:lastModifiedBy>Julia</cp:lastModifiedBy>
  <dcterms:modified xsi:type="dcterms:W3CDTF">2011-03-21T05:50:06Z</dcterms:modified>
  <cp:revision>8</cp:revision>
  <dc:subject/>
  <dc:title>슬라이드 1</dc:title>
</cp:coreProperties>
</file>