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94D-B780-48DC-B8D4-B4EFCB6A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09E-E572-4B48-BC42-E536D27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09F-A411-4463-982B-A04DBCD6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E0C-5319-4615-B413-CEAA65CF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413-6EB2-4B3E-A278-4F1AFD2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ED0-C723-4858-9FA6-F89780A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DCA-D773-4B56-B31A-B1F1E4F8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740-01BA-4DF7-8E0B-C55B2BE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270-8335-4759-AEF6-7664AC1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0A9-DBCB-4BB5-B04E-8FA6A7A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688-71B8-40AC-ABDA-F9C2BE7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CF7-9A69-4819-B21A-43C08B26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280" y="6244920"/>
            <a:ext cx="251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한국방위산업학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ogo2"/>
          <p:cNvPicPr/>
          <p:nvPr/>
        </p:nvPicPr>
        <p:blipFill>
          <a:blip r:embed="rId1"/>
          <a:stretch/>
        </p:blipFill>
        <p:spPr>
          <a:xfrm>
            <a:off x="1763640" y="1844640"/>
            <a:ext cx="5904000" cy="39830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8"/>
          <p:cNvSpPr/>
          <p:nvPr/>
        </p:nvSpPr>
        <p:spPr>
          <a:xfrm>
            <a:off x="142920" y="115920"/>
            <a:ext cx="1908000" cy="360360"/>
          </a:xfrm>
          <a:prstGeom prst="flowChartAlternateProcess">
            <a:avLst/>
          </a:prstGeom>
          <a:solidFill>
            <a:srgbClr val="c0c0c0"/>
          </a:solidFill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회 로고 디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03:09:33Z</dcterms:created>
  <dc:creator>방산학회</dc:creator>
  <dc:description/>
  <dc:language>en-US</dc:language>
  <cp:lastModifiedBy>Julia</cp:lastModifiedBy>
  <dcterms:modified xsi:type="dcterms:W3CDTF">2010-07-09T13:37:57Z</dcterms:modified>
  <cp:revision>4</cp:revision>
  <dc:subject/>
  <dc:title>슬라이드 1</dc:title>
</cp:coreProperties>
</file>